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CD91-3CB4-4144-9162-20163503D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13AF-C442-4C21-BE55-7C43AF8E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D3B4-8F65-4FE2-9913-D831575B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4BEB-2D25-4B26-A34D-F9A38453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B232-FB27-4EDA-9721-78FCEE26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AA44-99EB-4098-AE99-6B8A6970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3BF2-AFEF-40B5-8DBF-0C46ED20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662D-0AA3-4F83-9C7B-2F339220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C17E-023E-4F64-9376-4D564994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4B3C-1EE6-4AB4-93EF-6CF5DDAD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F882-9400-468E-8B63-3EE6BB06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615C-6635-455E-B946-E9BC899D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812D-0B78-44A0-9540-838171624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oetr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pa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kip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dim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jus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8. ye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9. wid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0. pil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1. gav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40384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tap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6. bump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7. wip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-360"/>
            <a:ext cx="44956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2. lik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3. hug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4. whis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oetr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pa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jus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kip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dim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tap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6. gav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7. lik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oet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599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halkboard"/>
                <a:ea typeface="Chalkboard"/>
              </a:rPr>
              <a:t>hug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halkboard"/>
                <a:ea typeface="Chalkboard"/>
              </a:rPr>
              <a:t>whis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halkboard"/>
                <a:ea typeface="Chalkboard"/>
              </a:rPr>
              <a:t>kick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474"/>
              </a:spcBef>
              <a:buClr>
                <a:srgbClr val="00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halkboard"/>
                <a:ea typeface="Chalkboard"/>
              </a:rPr>
              <a:t>basketball</a:t>
            </a:r>
            <a:r>
              <a:rPr b="0" lang="en-US" sz="5900" spc="-1" strike="noStrike">
                <a:solidFill>
                  <a:srgbClr val="000000"/>
                </a:solidFill>
                <a:latin typeface="Chalkboard"/>
                <a:ea typeface="Chalkboard"/>
              </a:rPr>
              <a:t> 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0" y="1599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8. rabbits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9. blankets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10. windows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11. glasses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halkboard"/>
                <a:ea typeface="Chalkboard"/>
              </a:rPr>
              <a:t>5. trumpet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halkboard"/>
                <a:ea typeface="Chalkboard"/>
              </a:rPr>
              <a:t>6. banged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halkboard"/>
                <a:ea typeface="Chalkboard"/>
              </a:rPr>
              <a:t>7. music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halkboard"/>
                <a:ea typeface="Chalkboard"/>
              </a:rPr>
              <a:t>12. twis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halkboard"/>
                <a:ea typeface="Chalkboard"/>
              </a:rPr>
              <a:t>13. pretzels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halkboard"/>
                <a:ea typeface="Chalkboard"/>
              </a:rPr>
              <a:t>14. which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halkboard"/>
                <a:ea typeface="Chalkboard"/>
              </a:rPr>
              <a:t>15. whisper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0:54:43Z</dcterms:created>
  <dc:creator>Kathryn.Cobb</dc:creator>
  <dc:description/>
  <dc:language>en-US</dc:language>
  <cp:lastModifiedBy>Kathryn Cobb</cp:lastModifiedBy>
  <dcterms:modified xsi:type="dcterms:W3CDTF">2009-10-05T13:43:49Z</dcterms:modified>
  <cp:revision>4</cp:revision>
  <dc:subject/>
  <dc:title>The Art Lesson Group A</dc:title>
</cp:coreProperties>
</file>